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815F-9CD3-4AE2-A26B-2C0CC275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1B4-6E97-445F-8ED3-B9FE21E1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B0A6-FF69-4E8A-8ED9-147FA9E1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A7CA-4C3E-44DC-BD07-6E50647E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6387-A33D-42BA-82EF-84E1B268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0E07-9B99-4915-B8A2-290C1941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14DA-AF0E-44FD-A097-E5CB2FD9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C4AD-0D61-4210-B76D-3A3EF245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A5DC-6767-4124-A9D2-72955DA5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E3A7-C662-48E2-82A3-2254609C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94C5-EC61-4F19-8F23-CF771AFB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032C-2A32-4D63-8B96-F1CA4097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4466-34B2-487A-9A6A-83BBCEB9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3C4D-BD23-4855-85DC-096704FE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A828-6803-4761-9797-D4F3C0CF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2084-B08C-427F-B73B-5E1CBC95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F58C-BDB9-4C97-86AD-8C1BE734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763-7828-4183-86E6-1B939EAC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E78D-606B-46E0-88FA-E2C84FCA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3FB-6C58-4765-A7C2-6DC3E45B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75E5-07EE-4B76-BD21-3BED1825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3778-9B45-4E36-9ADD-7EE6FAB3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084-9B71-427A-9EDF-B12FAF69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0309-506E-474F-8BA7-020932CF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3FEA-BDDD-4374-9B4D-F5163C6E13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5D21-7027-4983-8AD0-C929FD0E486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ASDM: Psychiatry 15th week of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71320" y="3357360"/>
            <a:ext cx="800100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292929"/>
                </a:solidFill>
                <a:latin typeface="Verdana"/>
              </a:rPr>
              <a:t>ETHICAL ASPECTS AND LEGAL REGULATION OF MENTAL DISORDERS, DEONTOLOGICAL APPROACH IN PSYCHIATRY,</a:t>
            </a:r>
            <a:r>
              <a:rPr b="1" lang="en-US" sz="2800" spc="-1" strike="noStrike">
                <a:solidFill>
                  <a:srgbClr val="292929"/>
                </a:solidFill>
                <a:latin typeface="Verdana"/>
              </a:rPr>
              <a:t> </a:t>
            </a:r>
            <a:r>
              <a:rPr b="1" lang="sr-Latn-RS" sz="2800" spc="-1" strike="noStrike">
                <a:solidFill>
                  <a:srgbClr val="292929"/>
                </a:solidFill>
                <a:latin typeface="Verdana"/>
              </a:rPr>
              <a:t>FORENSIC PSYCHIATRY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292929"/>
                </a:solidFill>
                <a:latin typeface="Verdana"/>
              </a:rPr>
              <a:t>Prof. Dr. Dragana Dr. Ignjatović Ristić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292929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rof</a:t>
            </a:r>
            <a:r>
              <a:rPr b="0" lang="sr-Latn-RS" sz="2000" spc="-1" strike="noStrike">
                <a:solidFill>
                  <a:srgbClr val="292929"/>
                </a:solidFill>
                <a:latin typeface="Verdana"/>
              </a:rPr>
              <a:t>. Dr. Vladimir Janjić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Picture 46" descr=""/>
          <p:cNvPicPr/>
          <p:nvPr/>
        </p:nvPicPr>
        <p:blipFill>
          <a:blip r:embed="rId1"/>
          <a:stretch/>
        </p:blipFill>
        <p:spPr>
          <a:xfrm>
            <a:off x="7308720" y="1125360"/>
            <a:ext cx="1397160" cy="1683000"/>
          </a:xfrm>
          <a:prstGeom prst="rect">
            <a:avLst/>
          </a:prstGeom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 - psychiatric expertise in the civil-law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xpertise in business (in)capacit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xpertise in the ability to draw up wills and contrac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ocedural capacity expertis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xpertise in divorce and child custody proceeding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xpertise in non-material (non-property) damage compensation procedur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ensic psychiatry and alcohol-relate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-425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rst stage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ight drunkenness(0.5-1.5 per thousand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stage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al drunkenness (1.5-2.5 per thousand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stage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arcotic(2.5-3.5 per thousand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stage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matose(&gt;3.5 per thousand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gal frame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416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Law on Patient Righ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w on Protection of Persons with Mental Disabiliti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ational guidelines of good clinical practice (treatment of depression, schizophrenia...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Forensic psychiatry: </a:t>
            </a:r>
            <a:br>
              <a:rPr sz="3200"/>
            </a:b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ules of behavior and law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authority of society: legislative, judicial, and executiv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ecessary and good harmonization of national and international legisl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15788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416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concept of expertis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nswer to the Court based on evidence, rules of the profession, and objectivel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expert opinion is determined by the Court, in a written decision, and can be determined by an institution, a team, or an individu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void professional expressions before the Cour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Arial"/>
              </a:rPr>
              <a:t>Forensic - psychiatric expert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 the field of criminal law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 the civil-law fiel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ensic - psychiatric expertise in the criminal-law field -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Comprehension: the ability to understand the significance of the committed act or the ability to manage one’s own actions at the time of the tortious situation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Comprehension is not a personality trait, but a temporary category that an expert declares, during a delict situation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96480"/>
            <a:ext cx="784836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ensic-psychiatric expertise in the criminal law field  - the ability to understand the importance of one’s own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ability to reason adequatel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t implies the ability of the executor to realize the real and social significance of his ac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erequisite preserved intellectual capaciti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92972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ensic - psychiatric expertise in the criminal-law fiel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 ability to manage one's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ability to decide, that is, the power of a person to initiate, direct, or control his own behaviors and ac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consequence of the harmonious development of cognitive and motivational process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ensic - psychiatric expertise in the criminal–law field - assessment of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unaccountability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ignificant reduction in sanity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asonablene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Up-Down Arrow 5"/>
          <p:cNvSpPr/>
          <p:nvPr/>
        </p:nvSpPr>
        <p:spPr>
          <a:xfrm>
            <a:off x="4286160" y="2143080"/>
            <a:ext cx="984240" cy="1216080"/>
          </a:xfrm>
          <a:prstGeom prst="upDownArrow">
            <a:avLst>
              <a:gd name="adj1" fmla="val 50000"/>
              <a:gd name="adj2" fmla="val 50022"/>
            </a:avLst>
          </a:prstGeom>
          <a:solidFill>
            <a:srgbClr val="cc9900"/>
          </a:solidFill>
          <a:ln w="936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Up-Down Arrow 6"/>
          <p:cNvSpPr/>
          <p:nvPr/>
        </p:nvSpPr>
        <p:spPr>
          <a:xfrm>
            <a:off x="4357800" y="4500720"/>
            <a:ext cx="984240" cy="1215720"/>
          </a:xfrm>
          <a:prstGeom prst="upDownArrow">
            <a:avLst>
              <a:gd name="adj1" fmla="val 50000"/>
              <a:gd name="adj2" fmla="val 50008"/>
            </a:avLst>
          </a:prstGeom>
          <a:solidFill>
            <a:srgbClr val="cc9900"/>
          </a:solidFill>
          <a:ln w="936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ensic-psychiatric expertise in the criminal law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pert examination of perpetrators of criminal ac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pert testimony of witnesses of criminal ac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pert testimony of crime victim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spects of certain types of criminal act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rimes against life and limb: minor bodily injury, serious bodily injury and murd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rimes against propert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xual crimes: rape, unnatural fornication and fornication and inces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21:04:23Z</dcterms:created>
  <dc:creator>milica borovcanin</dc:creator>
  <dc:description/>
  <dc:language>en-US</dc:language>
  <cp:lastModifiedBy>Milena Stojkovic</cp:lastModifiedBy>
  <dcterms:modified xsi:type="dcterms:W3CDTF">2024-02-11T19:55:17Z</dcterms:modified>
  <cp:revision>28</cp:revision>
  <dc:subject/>
  <dc:title>Мере безбедности медицинског карактера</dc:title>
</cp:coreProperties>
</file>